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9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52F1EC-7DE6-41BE-8173-D52E4B519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A33AD7-67EC-417C-B051-FF6A2E6CA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D1B134-D5DC-42B3-BDA5-344BA6B68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66DFDA-BBB7-4920-B3BC-2F332D98A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0FF3A8-E24E-4B49-BC5F-CFCE013C7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943B2A-D748-48F1-8B77-36CD569E7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knowledge that your parallel task here assume at least grade 9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0BBBDF-5EB2-4FD2-A93A-45278071F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32F1729-1BB0-43BA-9441-7EF1CE3C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77A456-5806-42FA-9B2A-67ECE55A2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928EBA-F6A3-4EE0-851D-A3154F0FE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06C40C-0BB5-41D4-B284-B5AC60D6B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95B1F6-D692-44A5-A2AD-5C64E76B2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F8ABA5-867C-4BC1-A9AA-61403C3EB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1EBB5A-F47C-4395-A7A4-5C815A58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7574C1-2AE1-4857-94FD-487CC162F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ED8F64-77D6-4019-AA09-7CB7D2613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25B1571-84D5-4B60-9F41-150A2ECF3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4BE169-C1AD-40FB-A7AF-7ACF8081D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4831CA-7DEF-44B2-8999-B50DCAB0E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D76E77-EA6F-4290-BE10-E309C0B07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A417C5-7A39-4183-89DC-FE59AD92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at tables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DF26F9-5F01-4DBF-AB63-B416F1A29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13D915-5DDA-4423-9B97-3324B5BAB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EB94715-D0B0-44F2-BACF-2FF62FBC9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30A8B89-9FC5-4FA9-8653-99536FAF7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32BEFC9-F6D7-46B4-8346-1A5E111FD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12FF41-79AD-45EC-930B-65610EBD7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FD989E-D786-4F5E-A432-3E11C5940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A674B3-7D13-46C7-9B93-A7158B880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7C3948-F449-4E04-9136-41931FC42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78A5642-6DC2-4F8A-BC49-67FE9B943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3293C00-995C-4E9A-8945-7CE2FBEF3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060F7B-7339-4786-A11B-6E4111836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097692-2C04-41AB-B767-221E8A571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61A44CA-8005-4943-86F2-E0073333B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knowledge this might be tough for some participants. Remind them what the quadratic formula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3D9AAF-47A5-4469-9C2A-4192ED292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718B26-913C-40ED-BE29-98FE897FC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808A0F-E5A1-45DC-9374-A89992166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F99C50-D84D-4222-9BD8-ABF2DA64A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93DA900-5366-4CBA-BA18-9B6815258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FF0E96-DF9D-47D5-B7D8-E36C984D3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28F830-7591-4278-9A83-4BA84C7EE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985320-863C-44AE-B6C4-B67DE4FD7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62C7ABC-9F28-4897-82F2-0125C4DB9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F25EA4-B2F7-45EC-9D6D-930869621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595B76-9DFD-4DD6-8837-E1079BEA7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CF0A3A-E009-4B64-8DDD-651865992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19C7DF-D763-4A69-BF4C-8F2F6A0A9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BD5744-F4F5-40B6-82D7-866A70C29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003FAF-C0D8-437B-A950-D256462FE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8FF52A-1BE9-4BD1-8880-14295E4D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AC74DF-DE56-4076-9EEB-56842E7BD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B30131-E10D-4830-B6D2-08A19F48C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6F515A-CC1F-4E8C-9B00-F2FC870BE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C9EE9CE-48C2-4C5F-B61F-0E4CD661E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21F243-EF77-4B55-9E1B-D815573D2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4683A4-04AC-43B4-9870-4D6FA9014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79F-B83D-4AB1-9B69-FF744318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884-0FD5-4C54-95E0-B8A19CE9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754-C574-4151-B8FF-C2904113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A14-F57C-41FA-82F4-95C532E4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BE40-5DC1-4CED-9911-7AE96376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55CE-37C5-4582-8383-3DF88725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BC6E-FF57-4E4B-943A-C1D00082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960B-B1B1-4F44-BBFB-96731B85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35CF-2C36-4B15-B323-3D082A4E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51C4-CAC1-448F-97B3-7BF4E208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7E65-5BB6-471C-AF31-F643DB9F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E08-F338-4DD5-9074-F212C175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FB32-E6C1-434F-88AA-58F776E6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0F16-3D8B-414A-B889-CAC79841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CDDB-4531-48DB-B829-532EF858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F605-10D3-4597-9B8D-A3B5169F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9924-9DC9-4DDA-A8F8-294D6521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13D-92E8-428A-9642-FA525259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870-4A38-4C25-ADE8-04CA7952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76B-F91B-4130-89CB-CB056037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34B-6774-4EF7-A936-0041A96D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820-E71F-44BB-9B20-34DE5C1E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C41-EFFD-4439-ADAA-8EDF4ED2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624-8C7D-455A-9859-54769A4C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B173-D570-46C5-B21E-20CD488A167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066680"/>
            <a:ext cx="2637000" cy="495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Untitled-1"/>
          <p:cNvPicPr/>
          <p:nvPr/>
        </p:nvPicPr>
        <p:blipFill>
          <a:blip r:embed="rId3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E0AB-1E5D-4A9F-837C-99270423CFC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3124080" y="5105520"/>
            <a:ext cx="500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Plenary 4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73000" y="213336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ummer Institute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hunder Bay</a:t>
            </a:r>
            <a:endParaRPr b="0" lang="en-US" sz="4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457200" y="2514600"/>
            <a:ext cx="86868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ight tell you that there are giant missing prerequisites that will get in the way of new learning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EE71-027B-430B-B7A9-61F144DE501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80880" y="9907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OR assessment </a:t>
            </a:r>
            <a:r>
              <a:rPr b="0" i="1" lang="en-CA" sz="4400" spc="-1" strike="noStrike">
                <a:solidFill>
                  <a:srgbClr val="0000ff"/>
                </a:solidFill>
                <a:latin typeface="Comic Sans MS"/>
              </a:rPr>
              <a:t>for</a:t>
            </a: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 lear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533520" y="2895480"/>
            <a:ext cx="83055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ight tell you that your students already know what you were planning to teach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8DEC-093C-41C3-AEFA-4502F63B85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80880" y="9907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OR assessment </a:t>
            </a:r>
            <a:r>
              <a:rPr b="0" i="1" lang="en-CA" sz="4400" spc="-1" strike="noStrike">
                <a:solidFill>
                  <a:srgbClr val="0000ff"/>
                </a:solidFill>
                <a:latin typeface="Comic Sans MS"/>
              </a:rPr>
              <a:t>for</a:t>
            </a: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 lear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mparing parallel tasks and ope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E7D1-82C6-4556-92EA-929C9C727A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09480" y="34290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Look at this pair of parallel tasks. Choose one and try i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1527-6918-4D33-AA7F-F9054E9646C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04920" y="838080"/>
            <a:ext cx="419076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ennifer drew a graph of         y = 2x – 8. She said there was no more work to do to draw a graph o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 =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What might she mea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648320" y="838080"/>
            <a:ext cx="44956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ennifer drew a graph of         y = 2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8. She said there was no more work to do to draw a graph o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 =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What might she mea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505320" y="4648320"/>
          <a:ext cx="5331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648320"/>
                    <a:ext cx="533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8153280" y="4572000"/>
          <a:ext cx="6732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3280" y="4572000"/>
                    <a:ext cx="673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772400" y="4724280"/>
                <a:ext cx="355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Straight Connector 8"/>
          <p:cNvSpPr/>
          <p:nvPr/>
        </p:nvSpPr>
        <p:spPr>
          <a:xfrm flipH="1">
            <a:off x="4493880" y="992160"/>
            <a:ext cx="3240" cy="5334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Picture 1.png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43" name="Straight Connector 4"/>
          <p:cNvSpPr/>
          <p:nvPr/>
        </p:nvSpPr>
        <p:spPr>
          <a:xfrm flipV="1">
            <a:off x="838080" y="1142640"/>
            <a:ext cx="7696440" cy="4419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Picture 4.png"/>
          <p:cNvPicPr/>
          <p:nvPr/>
        </p:nvPicPr>
        <p:blipFill>
          <a:blip r:embed="rId1"/>
          <a:stretch/>
        </p:blipFill>
        <p:spPr>
          <a:xfrm>
            <a:off x="0" y="830160"/>
            <a:ext cx="9144000" cy="5197680"/>
          </a:xfrm>
          <a:prstGeom prst="rect">
            <a:avLst/>
          </a:prstGeom>
          <a:ln w="0">
            <a:noFill/>
          </a:ln>
        </p:spPr>
      </p:pic>
      <p:sp>
        <p:nvSpPr>
          <p:cNvPr id="145" name="Straight Connector 6"/>
          <p:cNvSpPr/>
          <p:nvPr/>
        </p:nvSpPr>
        <p:spPr>
          <a:xfrm flipV="1">
            <a:off x="457200" y="1752120"/>
            <a:ext cx="7010280" cy="4038840"/>
          </a:xfrm>
          <a:prstGeom prst="line">
            <a:avLst/>
          </a:prstGeom>
          <a:ln w="255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2E61-8B1E-4C9B-9CD8-D67F9C508E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57200" y="2438280"/>
            <a:ext cx="83818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would the original graph look like? How do you know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would the second graph look like? How do you know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3645-B465-48F1-AE66-E570803800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33520" y="2438280"/>
            <a:ext cx="82296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do you think Jennifer meant when she said there was no more work to d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o you think she was righ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8088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86A0-440A-456D-BA7A-4A17F64FE73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143000" y="243828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big idea was implicit in both of the parallel task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do you think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ACBA-6740-4E3A-B8B9-FDE07A4662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0880" y="190512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 a partner, reframe the two parallel tasks into a single open questi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ce you do, decide if you think the parallel tasks or the open question might be better to use and wh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3352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do you think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118F-470A-4EF6-978F-15408C585E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0" y="6094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Consider this relation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4140-7E33-48D2-8783-C0DC205971A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266688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Open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s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n work in all three parts of a three-part less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ere to use ope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D2EF-6C5E-4D31-919A-D3C5A45215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80880" y="2057400"/>
            <a:ext cx="83059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example, a minds-on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op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question might be: Create two linear growing patterns that you think are really similar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4DB4-7965-4546-8507-32DC9D6A7BB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2057400"/>
            <a:ext cx="82296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E30C-03C6-44CF-96AD-CD54B9103E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057400"/>
            <a:ext cx="830556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might such an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open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 be effective in diagnosing student difference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o you see it more as exposing or evoking think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Purpose Open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5AFB-B9D2-4905-8565-DE6C5B72E6C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7200" y="2057400"/>
            <a:ext cx="86868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a lesson on inequalitie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reate a mathematical statement where any number greater than 10 is a possible solution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examples – Open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AE9A-99AC-42F6-91DA-9321A362150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57200" y="2057400"/>
            <a:ext cx="79246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a lesson on quadratic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two graphs do you think are alike? W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 = -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 = 2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Open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68A8-A5AE-4785-98E7-B98B9ED437B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57200" y="2057400"/>
            <a:ext cx="8381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you open up this question (or is it open now)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ll in the missing value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turn – Open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43000" y="4572000"/>
          <a:ext cx="6095880" cy="11984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9FD3-EDDB-44FB-83F9-F5C7E2E1C7C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09480" y="2590920"/>
            <a:ext cx="784872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might you use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pen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s for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98A3-2B01-4852-90A5-A84EBBD31D4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57200" y="1676520"/>
            <a:ext cx="83059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oose two different values for the missing amounts. Make them different kinds of numbers:          3x –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 4 +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raw a diagram that would help someone understand how to solve your equati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B06D-C452-4587-9933-B766A73BB70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2057400"/>
            <a:ext cx="85345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er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 studen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tras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7200" y="1981080"/>
            <a:ext cx="35812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a relation sort of like this on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E2B3-9ED4-4806-A734-D2AD11B468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105520" y="1905120"/>
            <a:ext cx="35049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5"/>
          <p:cNvSpPr/>
          <p:nvPr/>
        </p:nvSpPr>
        <p:spPr>
          <a:xfrm flipH="1">
            <a:off x="4494240" y="2133720"/>
            <a:ext cx="1440" cy="41925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BE11-7376-4FCB-AC75-B7258E52B1B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04920" y="2057400"/>
            <a:ext cx="8458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strategy do you think I used to make this question ope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 it a strategy that could be used in other situa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81D3-8EF9-47E1-B911-AEE96608F8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80880" y="2057400"/>
            <a:ext cx="8001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linear growing pattern has 50 as the 2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erm. Create a bunch of possible patterns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es the starting value for your pattern relate to the rate at which it grow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304920" y="838080"/>
            <a:ext cx="8839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examples – 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D04B-5A52-40E2-8AAB-A7A408A293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80880" y="2057400"/>
            <a:ext cx="838224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wo lines intersect at (1,3)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e is much steeper than the other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could the pair of lines be? Give several possibilitie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8351-ED52-4207-97A8-625D285738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04920" y="2057400"/>
            <a:ext cx="883908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pare the roots of these three equations. What do you notice? Why does it happe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17x + 4 = 0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37x + 6 = 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8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65x + 8 = 0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5791320" y="4191120"/>
            <a:ext cx="312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Add another question that works the same w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5547-E4EB-4F55-B175-4106B4F06C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09480" y="2743200"/>
            <a:ext cx="7848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ake up other sets of quadratic equations that have something in commo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252E-8D0B-4045-B9FE-B7D6C2408EE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457200" y="2743200"/>
            <a:ext cx="82296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trig function goes through the point (π,7). What could it be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st a bunch of possibilitie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1E28-D2C4-4A3A-B8C5-B9E5C77AF6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533520" y="2590920"/>
            <a:ext cx="78483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combination of $2 coins and $5 bills have a total value of $100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turn – 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C24C-D5C3-4832-96E2-2B6EA83D9D8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9480" y="2590920"/>
            <a:ext cx="7848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consolidati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Consolidati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60DB-958A-422F-84CD-D560D167D0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how to solve linear equations (e.g.,   4x – 2 = 9)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1319-094C-4F4D-88D8-739145B5258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33520" y="2057400"/>
            <a:ext cx="82296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out solving this equation, how do you know that the solution has to be positiv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-4x + 7 = -5x + 3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The underlying ide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80880" y="289548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 which big idea do you think this question might relate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4FEA-5665-4D26-AB0E-B17E9BA291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B2E4-F3B6-41E0-9523-01259B6AC42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are these equations alike and differen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E274-5478-4B3C-9491-6F56BDFA6DB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85800" y="2743200"/>
            <a:ext cx="815328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udents have learned the quadratic formula for solving quadratic equations and many other traits of quadratic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76212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Imagin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0F7D-7658-4422-AF0D-4CB9168541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esides the solutions to    a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+bx + c = 0, what else does the quadratic formula tell you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Picture 1.png"/>
          <p:cNvPicPr/>
          <p:nvPr/>
        </p:nvPicPr>
        <p:blipFill>
          <a:blip r:embed="rId1"/>
          <a:stretch/>
        </p:blipFill>
        <p:spPr>
          <a:xfrm>
            <a:off x="4038480" y="4038480"/>
            <a:ext cx="3314880" cy="112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FFDE-A63C-4A83-8D76-017AF72A79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838080" y="2438280"/>
            <a:ext cx="87631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is solving a quadratic equation like solving a linear equation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is it differen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19C4-0820-4CDB-BA44-00198F882D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533520" y="2057400"/>
            <a:ext cx="82296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e parabola is very narrow and one parabola is very wid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 there any way you be sure about how their equations differ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r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143F-0281-47FA-9FD5-1105847827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533520" y="2057400"/>
            <a:ext cx="83055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a lesson on trigonometric function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must graph a trig function. In what situation might you want a y-axis going from -100 to 100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D704-089D-4832-9D96-D96CE20710C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04920" y="2149560"/>
            <a:ext cx="861048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reate an open consolidation question that you might use having taught students a lesson about how to solve equations of the form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x +b = cx + d              (e.g., 2x – 4 = 3x +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380880" y="838080"/>
            <a:ext cx="8763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turn – 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7B70-1F42-4D4D-9586-75082A0F72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066680" y="25146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open up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rts of i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tarting from a sour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DF5E-7EA0-4BAE-A041-279B4B4A0E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09480" y="2057400"/>
            <a:ext cx="85345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example, a  growing pattern has 20 as the 9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ail-safe strateg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CD61-3170-4590-9E00-A3AED38263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0880" y="2057400"/>
            <a:ext cx="83059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example, how is factoring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5x + 6 like and different from factoring 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ail-safe strateg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tras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1523880"/>
            <a:ext cx="81788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pen: A graph passes through the points (2,4) and (3,8). Describe the relation the graph represents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7FED-C02F-4C55-99D8-17194EA9C57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4495680"/>
            <a:ext cx="87631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t open: A line passes through the points (2,4) and (3,8). Write the equation of the lin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5"/>
          <p:cNvSpPr/>
          <p:nvPr/>
        </p:nvSpPr>
        <p:spPr>
          <a:xfrm>
            <a:off x="609480" y="4343400"/>
            <a:ext cx="7848720" cy="1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4E4A-00F1-42E1-94C5-882CC53987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33520" y="2057400"/>
            <a:ext cx="8305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example, ask students to choose values for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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 graph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 = 8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ail-safe strateg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E040-B652-403F-951F-C0D07976FF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09480" y="2057400"/>
            <a:ext cx="85345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ther strateg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E68E-1BBA-44AF-A29A-6E166006CF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609480" y="2286000"/>
            <a:ext cx="7848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w you tr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th a partner, choose a lesson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33520" y="914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own less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EB3C-D342-481B-87E3-BE0BE79F43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533520" y="2286000"/>
            <a:ext cx="792468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 up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- the minds-on,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- the action,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- the consolid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533520" y="914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own less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4583-45C7-4C8D-82C7-2657C1F6D8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57200" y="1676520"/>
            <a:ext cx="84582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eract with others at your table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lect one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minds-o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one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ctio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and one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nsolidate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st them in the right spo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8088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har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D6BE-075A-4C4F-A3EE-E69489185F7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57200" y="1828800"/>
            <a:ext cx="86868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53352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71CE-DFA7-476C-81C6-837741DE83C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533520" y="2438280"/>
            <a:ext cx="822960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ssessment for learning is your focu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 open question should be accessible to all studen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78B4-0555-4923-9893-71011880E02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80880" y="1676520"/>
            <a:ext cx="84582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s is really an unscaffolded investigation, whether large or small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udents who need scaffolding receive it, but not everyone needs i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5335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57FB-273A-4309-93EF-A3C3CE56E71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880" y="1752480"/>
            <a:ext cx="85345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had a lesson goal tied to a big idea. Did I achieve my lesson goal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y opening it up, I continue to allow for exposure of student thinking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45720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E817-FB75-4F59-A690-0CCF4D3DE3D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tras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made it ope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709F-B1DC-498B-A527-C878D5CD55B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tras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80880" y="2057400"/>
            <a:ext cx="34290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an equation and solve i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2CDD-4899-4D56-8C3D-5417556DBE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267080" y="1981080"/>
            <a:ext cx="48769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 Open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lve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x-2 = 8. Describe your strateg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80880" y="99072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Using open questions for assessment </a:t>
            </a:r>
            <a:r>
              <a:rPr b="0" i="1" lang="en-CA" sz="4400" spc="-1" strike="noStrike">
                <a:solidFill>
                  <a:srgbClr val="0000ff"/>
                </a:solidFill>
                <a:latin typeface="Comic Sans MS"/>
              </a:rPr>
              <a:t>for</a:t>
            </a: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 lear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09480" y="2895480"/>
            <a:ext cx="8229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rmation about how to proceed with your lesso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4D87-3EF0-48A5-9F70-EABC9DE1534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7:54:23Z</dcterms:created>
  <dc:creator>Peel District School Board</dc:creator>
  <dc:description/>
  <dc:language>en-US</dc:language>
  <cp:lastModifiedBy>Kathy Kubota-Zarivnij</cp:lastModifiedBy>
  <dcterms:modified xsi:type="dcterms:W3CDTF">2009-08-20T19:35:41Z</dcterms:modified>
  <cp:revision>41</cp:revision>
  <dc:subject/>
  <dc:title>Coaching for Math GAINS Professional Learning</dc:title>
</cp:coreProperties>
</file>